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5128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29880" y="739440"/>
            <a:ext cx="4938840" cy="370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07920" y="4689360"/>
            <a:ext cx="4980240" cy="444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7"/>
          </p:nvPr>
        </p:nvSpPr>
        <p:spPr>
          <a:xfrm>
            <a:off x="3851280" y="9380160"/>
            <a:ext cx="294480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C1FD6F-8358-4CCD-851E-0ED5AFD5446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816DDCC-5CE6-4D23-86A8-C36DF4292F4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32040" y="739800"/>
            <a:ext cx="49370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907920" y="4689360"/>
            <a:ext cx="49816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830B0CD-EF60-4CAE-98CB-C413BFAC1ED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32040" y="739800"/>
            <a:ext cx="49370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907920" y="4689360"/>
            <a:ext cx="49816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932040" y="739800"/>
            <a:ext cx="49370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907920" y="4689360"/>
            <a:ext cx="49816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54EF1-7C84-4A7A-97A8-C78D92640F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900EB-8D33-477C-89E0-371F40948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9AF7C-BE98-492E-A11B-FE7D3690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6C379-7902-4871-95B6-486F10B2A4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797EB9-EEBE-4242-85E1-7DFA716900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395A99-C1E1-49DF-B6E3-5C35FF9A2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FF0901-7AF8-4C8A-AC28-59F5E2D92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27BC51-B800-49F3-BF72-492A4B3F1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8E49AA-2C6C-4068-972C-AEC5C3D3C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C45DE6-B163-4FFC-99A5-75AA57DE7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45048D-596C-407C-B3F8-89DC8C3C3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D610E-3983-4ECD-B1F0-A7B53ED5F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2FE375-D1D7-4D83-8FD0-69D7EDF96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E7CB5E-4ED3-426A-A1AC-2A3415343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F76025-1481-423D-B153-C95CF003D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12AE30-D918-487B-A292-497D2B6A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C50AAA-3EB9-4A84-A1A7-FFA4C9481A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B699E8-B5A3-4ED7-84D1-13E8563444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F0F3A1-1A6B-4644-AB97-2D00AB0D1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88BBC3-3284-4BA0-A356-496CE8074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BF7803-2F8B-483B-ACDE-A1867DA0B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636B46-4014-403E-956D-69BE69783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6CF9B-71B0-4604-A07D-7DBB1644B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A5D820-C20E-4D00-A1EE-612F63CD5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16BDCD-0897-4094-B6D9-9E204F30D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7C9E37-884A-4332-8122-98FBBA548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E766A9-634F-489E-97E9-03A86DDBA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387212-5735-43F0-9089-99BCE6F80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C7FA43-B91D-4040-B481-FF9E1CE9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7D305A-9BE7-487F-834B-77F0E677BB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80D34-0E9B-47F8-9CEC-0AA907E4F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5C2BB-82B3-48C6-B4A2-C30876D81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11146-2FFE-4557-9D31-F938855DC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12F3D-175C-4A23-8E0B-4D6C770DA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99DBF-1BC4-410D-914B-9309C4146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AAD73-56E5-45D4-8849-06A9E3F65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316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514185"/>
                </a:solidFill>
                <a:latin typeface="Times New Roman"/>
              </a:rPr>
              <a:t>Click to edit the title text format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0200" y="1487520"/>
            <a:ext cx="8810640" cy="45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3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3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3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3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3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3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.06.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81720"/>
            <a:ext cx="25894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СЛАЙД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BE9F163F-FC1F-4601-AC2A-8F73FED812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4440" indent="-33444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6120" indent="-278280">
              <a:lnSpc>
                <a:spcPct val="102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102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-223920">
              <a:lnSpc>
                <a:spcPct val="102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16000" indent="-2239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16000" indent="-2239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30.06.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F253E5A-2748-46D2-80B1-FC80586CC3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4440" indent="-33444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6120" indent="-278280">
              <a:lnSpc>
                <a:spcPct val="102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102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-223920">
              <a:lnSpc>
                <a:spcPct val="102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16000" indent="-2239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16000" indent="-22392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D145165-93AD-4F58-AEC6-4A6429AA242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6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30.06.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325080" cy="63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МИФЫ и РЕАЛЬНОСТЬ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о законопроек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«О внесении изменений в отдельные законодательные акты Российской Федерации в связи с совершенствованием правового положения государственных (муниципальных) учреждений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1268280"/>
            <a:ext cx="4067280" cy="4394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7c1b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 u="sng">
                <a:solidFill>
                  <a:srgbClr val="ff0000"/>
                </a:solidFill>
                <a:uFillTx/>
                <a:latin typeface="Times New Roman"/>
              </a:rPr>
              <a:t>В НАСТОЯЩЕЕ ВРЕМ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Финансовое обеспечение деятельности бюджетных учреждений осуществляется по смете. В итоге они  заинтересованы просто потратить бюджетные деньги </a:t>
            </a:r>
            <a:r>
              <a:rPr b="1" lang="en-GB" sz="1700" spc="-1" strike="noStrike">
                <a:solidFill>
                  <a:srgbClr val="ff0000"/>
                </a:solidFill>
                <a:latin typeface="Times New Roman"/>
              </a:rPr>
              <a:t>до конца финансового года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 и обосновать увеличение сметы на следующий год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Связь финансирования и результатов деятельности учреждения напрямую отсутствует, осуществляется содержание действующей сети учреждений, а не объема услуг (ст. 161, 221 БК РФ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МИФ: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Законопроект не повысит качество услуг для граждан, а также заинтересованность бюджетных учреждений в результатах своей деятельност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168720" y="0"/>
            <a:ext cx="597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95640" y="1268280"/>
            <a:ext cx="5148360" cy="446436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Times New Roman"/>
              </a:rPr>
              <a:t>КАК СТАН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Финансовое обеспечение выполнения госзадания осуществляется путем предоставления субсидии на его выполнение. Госзадание устанавливает показатели эффективности, объема, категории получателей госуслуги и результаты от оказания услуг, таким образом устанавливается связь между финансовым обеспечением учреждения и качеством (результатом) его работы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Не использованные до конца финансового года остатки субсидий, предоставленных бюджетному учреждению на выполнение госзадания, </a:t>
            </a:r>
            <a:r>
              <a:rPr b="1" lang="en-GB" sz="1700" spc="-1" strike="noStrike">
                <a:solidFill>
                  <a:srgbClr val="ff0000"/>
                </a:solidFill>
                <a:latin typeface="Times New Roman"/>
              </a:rPr>
              <a:t>остаются 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в распоряжении бюджетного учреждения (п. 10 ст. 19 Законопроекта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5877000"/>
            <a:ext cx="91440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ФИНАНСОВОЕ ОБЕСПЕЧЕНИЕ УВЯЗЫВАЕТСЯ С РЕЗУЛЬТАТОМ И ПОКАЗАТЕЛЯМИ ЭФФЕКТИВНОСТИ ОКАЗАНИЯ ГОСУСЛУГИ, СОЗДАЕТСЯ МОТИВАЦИИЯ ДЛЯ ЭКОНОМИИ СРЕДСТ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МИФ: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«Принятие законопроекта повлечет массовые увольне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348000" y="0"/>
            <a:ext cx="597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1916280"/>
            <a:ext cx="9144000" cy="381636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</a:rPr>
              <a:t>КАК СТАНЕ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В законопроекте </a:t>
            </a:r>
            <a:r>
              <a:rPr b="1" lang="en-GB" sz="2600" spc="-1" strike="noStrike">
                <a:solidFill>
                  <a:srgbClr val="ff0000"/>
                </a:solidFill>
                <a:latin typeface="Times New Roman"/>
              </a:rPr>
              <a:t>прямо указано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, что в связи с его принятием не требуется переназначение руководителей и работников казенных учреждений, созданных в соответствии с законом, и существующих бюджетных учреждений (п. 7 ст. 20 Законопроекта)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1125360"/>
            <a:ext cx="3492360" cy="408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7c1b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 u="sng">
                <a:solidFill>
                  <a:srgbClr val="ff0000"/>
                </a:solidFill>
                <a:uFillTx/>
                <a:latin typeface="Times New Roman"/>
              </a:rPr>
              <a:t>В НАСТОЯЩЕЕ ВРЕМ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Контроль за осуществлением расходов на соответствие содержания операции доведенным лимитам бюджетных обязательств осуществляется на этапе санкционирования кассовых выплат с лицевых счетов отрытых учреждениям в Федеральном казначейств или финансовом органе (ст. 161, 219 БК РФ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Кроме того, информация о деятельности бюджетного учреждения закрыта для общественности, так как законодательство не устанавливает нормы о публикации такой информации в открытом доступ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МИФ: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Средства бюджета, попав в новые бюджетные учреждения, перестанут контролироваться их использование не будет прозрачны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348000" y="0"/>
            <a:ext cx="597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92360" y="1125360"/>
            <a:ext cx="5651640" cy="410400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500" spc="-1" strike="noStrike" u="sng">
                <a:solidFill>
                  <a:srgbClr val="ff0000"/>
                </a:solidFill>
                <a:uFillTx/>
                <a:latin typeface="Times New Roman"/>
              </a:rPr>
              <a:t>КАК СТАНЕТ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Счета по прежнему будут открыты в Федеральном казначействе или финансовом органе, таким образом, хоть санкционирования за использованием субсидии на госзадание не предусматривается, но содержание операции становится видным, в том числе и для проверяющих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Кроме того, в открытом доступе в сети Интернет публикуются следующие сведения об учреждениях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1) Юридические документы - учредительные документы; свидетельство о государственной регистрации; решение учредителя о создании; решение учредителя о назначении руководителя; положения о филиалах, представительства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) Финансовые документы - план финансово-хозяйственной деятельности; годовая бухгалтерская отчетность; сведения о проведенных в отношении учреждения контрольных мероприятиях и их результатах; госзадание на оказание услуг (выполнение работ); отчет о результатах деятельности и об использовании закрепленного госимущества      (ст. 32 Закона «О некоммерческих организациях»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6093000"/>
            <a:ext cx="9144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ДЕЯТЕЛЬНОСТЬ БЮДЖЕТНЫХ УЧРЕЖДЕНИЙ СТАНЕТ НАМНОГО ПРОЗРАЧНЕЕ ДЛЯ ОБЩЕСТВЕННОГО КОНТРО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МИФ: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Распределение госзаданий приведет к повышению коррупц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1052640"/>
            <a:ext cx="9144000" cy="468000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Коррупциогенный фактор создается не в процессе формирования сметы или госзадания, а в результате отсутствия прозрачности и нечеткости административных процеду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</a:rPr>
              <a:t>КАК СТАНЕ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Законопроект направлен на повышение публичности и открытости деятельности бюджетных учреждений (ст. 32 Закона «О некоммерческих организациях»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В бюджетной смете утверждается объем финансового обеспечения, в госзадании утверждается не только объем субсидии на его выполнение, но и устанавливаются показатели эффективности (ст. 69.2 БК РФ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602136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ЗАКОНОПРОЕКТ НЕ СОЗДАЕТ  КОРРУПЦИОГЕННЫХ НОР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26028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МИФ: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Руководители новых бюджетных учреждений станут полновластными хозяевами бюджетных учреждений, не подконтрольными ником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0" y="0"/>
            <a:ext cx="597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1268280"/>
            <a:ext cx="9144000" cy="446256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</a:rPr>
              <a:t>КАК СТАНЕ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Кроме предусмотренной в настоящее время законодательством РФ ответственности (административной, уголовной) руководитель несет также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персональную ответственность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за просроченную кредиторскую задолженность бюджетного учреждения, превышающую предельно допустимые значения, установленную органом, осуществляющим функции и полномочия учредителя, за превышение которой трудовой договор с ним может быть расторгнут в одностороннем порядке (п. 6 ст. 19 Законопроекта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Руководитель бюджетного учреждения несет перед бюджетным учреждение ответственность в размере убытков, причиненных в результате совершения крупной сделки, в случае если эта сделка не была предварительно согласована с учредителем (п.12 ст. 9.2 Закона «О некоммерческих организациях»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501336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ЗА ПРОСРОЧЕННУЮ КРЕДИТОРСКУЮ ЗАДОЛЖЕННОСТЬ – УВОЛЬНЕНИЕ, ЗА УБЫТОК – ВЗЫСКАНИЕ В РАЗМЕРЕ УБЫТ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УСТАНОВЛЕНИЕ УКАЗАННЫХ НОРМ ТРЕБУЕТ ОТ УЧРЕДИТЕЛЯ БЮДЖЕТНОГО УЧРЕЖДЕНИЯ ПОСТОЯННОГО МОНИТОРИНГА ФИНАНСОВОГО СОСТОЯНИЯ БЮДЖЕТНОГО УЧРЕ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1341360"/>
            <a:ext cx="8964720" cy="55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Целью законопроекта являетс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algn="just">
              <a:lnSpc>
                <a:spcPct val="80000"/>
              </a:lnSpc>
              <a:buClr>
                <a:srgbClr val="ffffff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повышение качества государственных (муниципальных) услуг, предоставляемых населен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just">
              <a:lnSpc>
                <a:spcPct val="80000"/>
              </a:lnSpc>
              <a:buClr>
                <a:srgbClr val="ffffff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создание стимула и мотивации для учреждений к эффективному использованию финансовых ресурсов и государственного (муниципального) имуще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ffffff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устанавливаются новые нормы, направленные на обеспечение прозрачности деятельности бюджетных учрежд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ffffff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вместо существующей информации об исполнении сметы, предметом отчетности бюджетного учреждения становится отчет о результатах деятельности и об использовании закрепленного за учреждением имуще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ffffff"/>
              </a:buClr>
              <a:buFont typeface="Times New Roman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законопроект вводит новые нормы контроля за бюджетным учреждением, в том числе посредством контроля за финансовым состоянием (просроченной кредиторской задолженности, за совершением крупной сделки,  информацией о деятельности бюджетного учреждения, в том числе в части выполнении государственного задания, о результатах проведенных в отношении учреждения контрольных мероприяти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524720" y="6526080"/>
            <a:ext cx="151128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ahoma"/>
              </a:rPr>
              <a:t>Слайд 1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-41400"/>
            <a:ext cx="914400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МИФ:</a:t>
            </a:r>
            <a:r>
              <a:rPr b="1" lang="en-GB" sz="24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Обсуждение законопроекта идет тихо, не обеспечена необходимая гласность и открытост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284720" y="0"/>
            <a:ext cx="50385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907920"/>
            <a:ext cx="9144000" cy="532944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en-GB" sz="2000" spc="-1" strike="noStrike" u="sng">
                <a:solidFill>
                  <a:srgbClr val="ff0000"/>
                </a:solidFill>
                <a:uFillTx/>
                <a:latin typeface="Times New Roman"/>
              </a:rPr>
              <a:t>Данное утверждение не соответствует действитель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Разработка законопроекта была предусмотре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Концепцией развития гражданского законодательства Российской Федерации, одобренной решением Совета при Президенте РФ по кодификации и совершенствованию гражданского законодательства от 07.10.2009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Планом мероприятий по совершенствованию государственного управления в 2009 - 2010 годах, утвержденным распоряжением Правительства РФ от 03.12.2009 № 1862-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В Бюджетном послании 25 мая 2009 г. Президентом Российской Федерации Федеральному Собранию была поставлена задача совершенствования правового положения государственных (муниципальных) учрежд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далее см. слайд 2.1)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91440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Продолжение слайда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84720" y="0"/>
            <a:ext cx="50385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404640"/>
            <a:ext cx="9144000" cy="554544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Разработка законопроекта осуществлялась Рабочей группой при Правительстве Российской Федерации, с участием представителей федеральных органов государственной власти, ГУ ВШЭ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Законопроект был внесен 31 декабря 2009 г. Правительством РФ  в Госдуму РФ и размещен на сайте Госдумы, направлен всем субъектам Российской Федерации, а также в Счетную и Общественную палаты 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Законопроект был обсужден в 13 комитетах и комиссиях Государственной Думы и Совета Федераци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26 и 27 февраля 2010 года на совещании Министерства финансов РФ с представителями всех федеральных органов государственной власти  были обсуждены основные положения Законопроекта, а также мероприятия по подготовке его к реализа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В марте 2010 г. были проведены неоднократные встречи по оценке социально-экономических последствий Законопроекта с представителями  Федерации Независимых Профсоюзов России, с Комиссией по социальному страхованию, социальной защите, отраслям социальной сферы Российской трехсторонней комиссии по регулированию социально-трудовых отноше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В ходе обсуждения 2 апреля 2010 года Законопроекта с представителями общероссийских объединений профсоюзов и общероссийских объединений работодателей была достигнута договоренность ежеквартального представления Министерством финансов Российской Федерации координаторам Российской трехсторонней комиссии по регулированию социально-трудовых отношений информации о ходе реализации Законопроект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Проведены совещания представителями Минфина России  с участием Сообщества финансистов России, а также в субъектах РФ (включая г. Москву, Республики Саха (Якутия), Коми, Татарстан, Оренбургскую область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Подготовка законопроекта и обсуждение его в Правительстве РФ  и Госдуме РФ происходили в атмосфере открытости и активного участия в работе над ним заинтересованных лиц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1125360"/>
            <a:ext cx="4572000" cy="475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7c1b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 u="sng">
                <a:solidFill>
                  <a:srgbClr val="ff0000"/>
                </a:solidFill>
                <a:uFillTx/>
                <a:latin typeface="Times New Roman"/>
              </a:rPr>
              <a:t>В НАСТОЯЩЕЕ ВРЕМ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Собственник</a:t>
            </a: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всего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имущества бюджетных учреждений – это либо Российская Федерация, либо субъект Российской Федерации, либо муниципальное образование (ст. 296 ГК РФ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-114480"/>
            <a:ext cx="9144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МИФ:</a:t>
            </a:r>
            <a:r>
              <a:rPr b="1" lang="en-GB" sz="28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Принятие законопроекта приведет к приватизации</a:t>
            </a:r>
            <a:br>
              <a:rPr sz="2400"/>
            </a:b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государственного имущест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84720" y="0"/>
            <a:ext cx="503856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00720" y="1125360"/>
            <a:ext cx="4643280" cy="475164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Times New Roman"/>
              </a:rPr>
              <a:t>КАК СТАН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Собственник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всего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имущества бюджетных учреждений – это либо Российская Федерация, либо субъект Российской Федерации, либо муниципальное образование (ст. 296 ГК РФ, п. 9 ст. 9.2 Закона «О некоммерческих организациях»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5661000"/>
            <a:ext cx="9144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ВСЕ ИМУЩЕСТВО ПО ПРЕЖНЕМУ ОСТАЕТСЯ В СОБСТВЕННОСТИ СООТВЕТСТВУЮЩЕГО ПУБЛИЧНОГО ПРАВОВОГО ОБРАЗОВАНИЯ, СЛЕДОВАТЕЛЬНО ПРИВАТИЗАЦИИ ЭТОГО ИМУЩЕСТВА НЕ ПРОИЗОЙД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692280"/>
            <a:ext cx="4500720" cy="5186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7c1b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 u="sng">
                <a:solidFill>
                  <a:srgbClr val="ff0000"/>
                </a:solidFill>
                <a:uFillTx/>
                <a:latin typeface="Times New Roman"/>
              </a:rPr>
              <a:t>В НАСТОЯЩЕЕ ВРЕМ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Бюджетное учреждение не может быть признано несостоятельным (банкротом) (ч. 4 ст. 61 ГК РФ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МИФ: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Новые бюджетные учреждения начнут банкротить в целях завладения их имуществом и земельными участкам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00720" y="692280"/>
            <a:ext cx="4498920" cy="525780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Times New Roman"/>
              </a:rPr>
              <a:t>КАК СТАН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Бюджетное учреждение не может быть признано несостоятельным (банкротом) (ч. 4 ст. 61 ГК РФ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5589720"/>
            <a:ext cx="9144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БАНКРОТСТВО НОВОГО БЮДЖЕТНОГО УЧРЕЖДЕНИЯ НЕВОЗМОЖ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1197000"/>
            <a:ext cx="3564000" cy="4681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7c1b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600" spc="-1" strike="noStrike" u="sng">
                <a:solidFill>
                  <a:srgbClr val="ff0000"/>
                </a:solidFill>
                <a:uFillTx/>
                <a:latin typeface="Times New Roman"/>
              </a:rPr>
              <a:t>В НАСТОЯЩЕЕ ВРЕМЯ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Имущество находится у учреждения на праве оперативного управления, управление, владение и распоряжение таким имуществом осуществляется с согласия собственника этого имущества (ст. 120 и 296 ГК РФ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Бюджетное учреждение не вправе отчуждать, либо иным способом распоряжаться имуществом, закрепленным за ним собственником или приобретенным за счет средств, выделенных ему собственником на приобретение такого имущества (ст. 298 ГК РФ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Земельный участок предоставляется бюджетному учреждению на праве постоянного (бессрочного) пользования, предусматривающем ограничение оборотоспособности земельного участка (ст. 20 Земельного кодекса РФ )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147600"/>
            <a:ext cx="914400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МИФ: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Новое бюджетное учреждение в обеспечение своих договоров будут закладывать земли и имущество, отдавать недвижимое имущество за долг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492360" y="1197000"/>
            <a:ext cx="5507280" cy="504036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600" spc="-1" strike="noStrike" u="sng">
                <a:solidFill>
                  <a:srgbClr val="ff0000"/>
                </a:solidFill>
                <a:uFillTx/>
                <a:latin typeface="Times New Roman"/>
              </a:rPr>
              <a:t>КАК СТАНЕТ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Бюджетное учреждение владеет пользуется имуществом, закрепленным за ним на праве оперативного управления в пределах установленных законом, в соответствии с целями своей деятельности, назначением этого имущества, и если иное не установлено законом распоряжается этим имуществом </a:t>
            </a:r>
            <a:r>
              <a:rPr b="1" lang="en-GB" sz="1500" spc="-1" strike="noStrike">
                <a:solidFill>
                  <a:srgbClr val="ff0000"/>
                </a:solidFill>
                <a:latin typeface="Times New Roman"/>
              </a:rPr>
              <a:t>с согласия собственника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 этого имущества (ст. 120, 296 ГК РФ)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Бюджетное учреждение без согласия собственника не вправе распоряжаться особо ценным движимым имуществом, закрепленным за ним собственником или приобретенным бюджетным учреждением за счет средств, выделенных ему собственником на приобретение такого имущества, а также недвижимым имуществом (ст. 298 ГК РФ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В дополнение к Земельному кодексу, аналогичная норма, определяющая ограничение оборотоспособности земельного участка, предоставляемого бюджетному учреждению, устанавливается в статье 9.2 Закона «О некоммерческих организациях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ПЕРЕДАЧА В ЗАЛОГ НЕДВИЖИМОГО ИМУЩЕСТВА, ОСОБО ЦЕННОГО ДВИЖИМОГО ИМУЩЕСТВА, ЗЕМЕЛЬНЫХ УЧАСТКОВ БЕЗ СОГЛАСИЯ СОБСТВЕННИКА НЕЗАКОН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907920"/>
            <a:ext cx="3492360" cy="4897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7c1b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 u="sng">
                <a:solidFill>
                  <a:srgbClr val="ff0000"/>
                </a:solidFill>
                <a:uFillTx/>
                <a:latin typeface="Times New Roman"/>
              </a:rPr>
              <a:t>В НАСТОЯЩЕЕ ВРЕМ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Имущество находится у учреждения на праве оперативного управления, управление, владение и распоряжение таким имуществом осуществляется с согласия собственника этого имущества (ст. 120 и 296 ГК РФ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МИФ: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«Новые бюджетные учреждения начнут злоупотреблять свободой, распродавая достояние государст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348000" y="0"/>
            <a:ext cx="597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635280" y="981000"/>
            <a:ext cx="5508720" cy="489600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600" spc="-1" strike="noStrike" u="sng">
                <a:solidFill>
                  <a:srgbClr val="ff0000"/>
                </a:solidFill>
                <a:uFillTx/>
                <a:latin typeface="Times New Roman"/>
              </a:rPr>
              <a:t>КАК СТАНЕТ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Бюджетное учреждение владеет пользуется имуществом, закрепленным за ним на праве оперативного управления в пределах установленных законом, в соответствии с целями своей деятельности, назначением этого имущества, и если иное не установлено законом распоряжается этим имуществом </a:t>
            </a:r>
            <a:r>
              <a:rPr b="1" lang="en-GB" sz="1500" spc="-1" strike="noStrike">
                <a:solidFill>
                  <a:srgbClr val="ff0000"/>
                </a:solidFill>
                <a:latin typeface="Times New Roman"/>
              </a:rPr>
              <a:t>с согласия собственника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 этого имущества (ст. 120, 296 ГК РФ)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Кроме того, законопроект регулирует отношения по крупным сделкам (к которым относятся сделки связанные с распоряжением денежными средствами, отчуждением иного имущества (которым БУ вправе распоряжаться самостоятельно), с передачей такого имущества в пользование или в залог, при условии что цена такой сделки превышает </a:t>
            </a:r>
            <a:r>
              <a:rPr b="1" lang="en-GB" sz="1500" spc="-1" strike="noStrike">
                <a:solidFill>
                  <a:srgbClr val="ff0000"/>
                </a:solidFill>
                <a:latin typeface="Times New Roman"/>
              </a:rPr>
              <a:t>10%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 балансовой стоимости активов бюджетного учреждения). Крупная сделка может быть совершена только </a:t>
            </a:r>
            <a:r>
              <a:rPr b="1" lang="en-GB" sz="1500" spc="-1" strike="noStrike">
                <a:solidFill>
                  <a:srgbClr val="ff0000"/>
                </a:solidFill>
                <a:latin typeface="Times New Roman"/>
              </a:rPr>
              <a:t>с 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предварительного согласия учредителя (п. 12 ст. 9.2 Закона «О некоммерческих организациях» )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5589720"/>
            <a:ext cx="91440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ИМУЩЕСТВО ЯВЛЯЕТСЯ ГОСУДАРСТВЕННОЙ СОБСТВЕННОСТЬЮ, СДЕЛКИ С ИМУЩЕСТВОМ ПОДКОНТРОЛЬНЫ УЧРЕДИТЕЛЮ И СОБСТВЕННИ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907920"/>
            <a:ext cx="4140360" cy="4394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7c1b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800" spc="-1" strike="noStrike" u="sng">
                <a:solidFill>
                  <a:srgbClr val="ff0000"/>
                </a:solidFill>
                <a:uFillTx/>
                <a:latin typeface="Times New Roman"/>
              </a:rPr>
              <a:t>В НАСТОЯЩЕЕ ВРЕМ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Закон «О некоммерческих организациях» на бюджетные и автономные учреждения не распространяется (п.5 ст. 1 Закона «О некоммерческих организациях» 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Бюджетное учреждение вправе осуществлять приносящую доход деятельность, если такое право предусмотрено учредительными документами (ст. 298 ГК РФ)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-108000" y="115920"/>
            <a:ext cx="9252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МИФ: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По своему статусу новые бюджетные учреждения являются коммерческими организациям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348000" y="0"/>
            <a:ext cx="597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067280" y="836640"/>
            <a:ext cx="5076720" cy="460836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Times New Roman"/>
              </a:rPr>
              <a:t>КАК СТАН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Закон «О некоммерческих организациях» распространяется на бюджетные учреждения и является «базовым» законом, ограничивающим режим распоряжения имуществом, устанавливающим требования публичности информации о деятельности бюджетного учреждения и др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Бюджетное учреждение вправе осуществлять приносящую доход деятельность при условии, что такая деятельность указана в его учредительных документах </a:t>
            </a: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лишь постольку, поскольку это служит достижению целей, ради которых оно создано, и соответствующую этим целям</a:t>
            </a:r>
            <a:r>
              <a:rPr b="0" lang="en-GB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ст. 298 ГК РФ, п. 4 ст. 9.2 Закона «О некоммерческих организациях» )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566100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500" spc="-1" strike="noStrike">
                <a:solidFill>
                  <a:srgbClr val="ff0000"/>
                </a:solidFill>
                <a:latin typeface="Times New Roman"/>
              </a:rPr>
              <a:t>ЗАКОНОПРОЕКТОМ УСИЛИВАЕТСЯ НОРМА, О ТОМ ЧТО БЮДЖЕТНЫЕ УЧРЕЖДЕНИЯ ЯВЛЯЮТСЯ КЛАССИЧЕСКИМИ НЕКОММЕРЧЕСКИМИ ОРГАНИЗАЦИЯМИ С ОГРАНИЧЕНИЯМИ СФЕРЫ ОСУЩЕСТВЛЕНИЯ ПРИНОСЯЩЕЙ ДОХОД ДЕЯТЕЛЬНОСТИ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981000"/>
            <a:ext cx="3851280" cy="4249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7c1b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Times New Roman"/>
              </a:rPr>
              <a:t>В НАСТОЯЩЕЕ ВРЕМ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Госзадание для бюджетного учреждения должно содержать, в том числ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предельные цены (тарифы)  на оплату соответствующих услуг в случаях, если законодательством предусмотрено их оказание на платной основе, либо порядок установления указанных цен и тарифов (ст. 69.2 БК РФ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МИФ: «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Новые бюджетные учреждения будут наращивать платные услуги за счет сокращения объема бесплатных услуг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348000" y="0"/>
            <a:ext cx="597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80000" y="981000"/>
            <a:ext cx="5364000" cy="4464000"/>
          </a:xfrm>
          <a:prstGeom prst="rect">
            <a:avLst/>
          </a:prstGeom>
          <a:gradFill rotWithShape="0">
            <a:gsLst>
              <a:gs pos="0">
                <a:srgbClr val="e7f5f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 u="sng">
                <a:solidFill>
                  <a:srgbClr val="ff0000"/>
                </a:solidFill>
                <a:uFillTx/>
                <a:latin typeface="Times New Roman"/>
              </a:rPr>
              <a:t>КАК СТАНЕ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Госзадание для бюджетного учреждения должно содержать, в том числ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-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предельные цены (тарифы)  на оплату соответствующих услуг в случаях, если законодательством предусмотрено их оказание на платной основе, либо порядок установления указанных цен и тарифов (ст. 69.2 БК РФ)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-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Бюджетное учреждение вправе оказывать платные услуги </a:t>
            </a:r>
            <a:r>
              <a:rPr b="1" lang="en-GB" sz="1700" spc="-1" strike="noStrike">
                <a:solidFill>
                  <a:srgbClr val="ff0000"/>
                </a:solidFill>
                <a:latin typeface="Times New Roman"/>
              </a:rPr>
              <a:t>только сверх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 установленного государственного (муниципального) задания, а также в рамках госзадания, если это прямо установлено в федеральном законе, на </a:t>
            </a:r>
            <a:r>
              <a:rPr b="1" lang="en-GB" sz="1700" spc="-1" strike="noStrike">
                <a:solidFill>
                  <a:srgbClr val="000000"/>
                </a:solidFill>
                <a:latin typeface="Times New Roman"/>
              </a:rPr>
              <a:t>одинаковых</a:t>
            </a:r>
            <a:r>
              <a:rPr b="0" lang="en-GB" sz="1700" spc="-1" strike="noStrike">
                <a:solidFill>
                  <a:srgbClr val="000000"/>
                </a:solidFill>
                <a:latin typeface="Times New Roman"/>
              </a:rPr>
              <a:t> при оказании одних и тех же услуг условиях (ст. 9.2 Закона «О некоммерческих организациях» 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5589720"/>
            <a:ext cx="914400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ЗАКОНОПРОЕКТ УТОЧНЯЕТ ДЕЙСТВУЮЩИЕ НОРМЫ,  О ТОМ ЧТО ПЛАТНЫЕ УСЛУГИ МОГУТ ОКАЗЫВАТЬСЯ ТОЛЬКО СВЕРХ ГОСЗАДАНИЯ, А В РАМКАХ ГОСЗАДАНИЯ, ЕСЛИ ЭТО УСТАНОВЛЕНО ФЕДЕРАЛЬНЫМ ЗАКОНОМ (НАПРИМЕР, БИЛЕТЫ В ТЕАТРЫ, МУЗЕИ)</a:t>
            </a:r>
            <a:r>
              <a:rPr b="1" lang="en-GB" sz="1600" spc="-1" strike="noStrike">
                <a:solidFill>
                  <a:srgbClr val="ff0000"/>
                </a:solidFill>
                <a:latin typeface="Times New Roman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064360" y="6526080"/>
            <a:ext cx="971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Слайд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fimov I.L.</dc:creator>
  <dc:description/>
  <dc:language>en-US</dc:language>
  <cp:lastModifiedBy>eilyina</cp:lastModifiedBy>
  <cp:revision>0</cp:revision>
  <dc:subject/>
  <dc:title>No Slide Title</dc:title>
</cp:coreProperties>
</file>